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9A4D-53C4-4488-A999-A635ED112F9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ED0E-A0FA-4039-9D7B-FFDEBDB3892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8C3C-FDE9-4987-A114-E294B78349C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CBE7-CFA1-431D-AB4C-EA5369E0D05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E24C54-3F2B-48EB-ACBC-160FF1D2BD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D8C06205-14CF-4F40-BC98-494E435F7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1B92ED1D-32E2-49BB-B551-2CA1DE4C4D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FA629ACB-829E-4984-9A55-CDF4EDD671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F76C1561-1A05-4A9B-A389-1F0F4AE11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F5F0B40C-408E-4745-990D-174075DE3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35158271-5E9B-46D6-8D7F-DCA5B1381C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C1CA8DF9-4BAC-4F25-BD80-B83573DDD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114DA83F-ED16-4A03-9755-CD3C90BA3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8BA6A71-5456-4F6E-8D2F-AD00229C4D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812B0609-8C86-4B95-947A-5828C48ED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6EAE658-F9DF-49CB-9FDD-C26DFBF37C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63BD-96DB-4492-86F6-A94BF6268D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04F4-47FD-441E-A326-327DA6B65DA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CE4B-1DA4-4BC4-86D3-AC86EA5FBA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6964-C439-4CC4-8477-BAF7483C3679}"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74F5-94A9-4644-892F-D736F2E3E8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C487-C73E-4CCE-A741-02D3735FDDAF}"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2B26-E7C3-4E64-9E15-A66C55A27A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A492-7630-4285-A03E-23FE8CA2D2C6}"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1585-70B0-4D0C-B0E6-08E6B2F617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9E1E-BFB8-4EC1-A1B1-853ABCE13E38}"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E060-FCF2-40BE-87CE-007C67549A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FF05-4C96-4EB5-B76A-F17002A2B5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60EA-CFF2-4983-A675-F5D24705DC46}"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6FF5-32F4-4C04-82F4-77D178C746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B045-1A4C-475D-ABB1-FE566BE5E9B3}"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BD37-9FFE-4959-9306-EC9156D49A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F24E-184F-4F02-9E56-EEF975FD0060}"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8745-E633-48C2-9C46-6AC06F5EEE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00DF-1FA6-4229-AF44-27A070C29804}"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BC78-7D72-4CD2-ADBD-7C4D9E61D1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2E76-E415-4766-9F75-60DD43DD8D36}"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2A5F-07E2-4588-BA11-1ABF31A9E2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80BD-A20F-48DE-8885-7E3F1A8F6EBC}"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5F02-EDB3-4E53-B42B-E8D7D95C74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46C6-1087-4CEB-AD93-A5E36A39744E}"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C216-F521-4888-BB6D-8EB6D7246D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2E70-EFFA-4FD4-8A6E-55A224531A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8C47-7AC4-4043-A1E3-34A15167E3E6}" type="datetime">
              <a:rPr b="0" lang="zh-CN" sz="1000" spc="-1" strike="noStrike">
                <a:solidFill>
                  <a:srgbClr val="ffffff"/>
                </a:solidFill>
                <a:latin typeface="Verdana"/>
                <a:ea typeface="宋体"/>
              </a:rPr>
              <a:t>26/7/29</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